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1409-5BC9-44D4-ADD3-1C94286B443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C675-0AD7-422C-B1E8-1B1A5E3347A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073-4685-4234-8DE4-B06DEBF7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249-1DCA-44A0-B9A7-58CCA59F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E56-8026-483A-ACE8-8039A350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32D-9317-421C-A0F4-F7396AAB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E0B0-D94F-4433-A94A-9AA9DE02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25A8-680B-4602-A6BC-101ADAE7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292D-EB03-4649-8C1A-DE293764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8F1F-7BBF-4716-A64E-630E4BC3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55C3-D090-4FCA-827E-4EA2BE75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B37F-9CC6-4530-ABD9-1D0C1A17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669B-C5A8-408B-8C9A-14E22FE0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9117-A473-4D2C-A2A7-B1082F3D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73B4-056D-41E8-AA89-A8EEB684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E4F3-224B-4620-9B73-C06E1093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0AC9-3BD3-4DCF-9CA7-C38B0292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1693-D4AD-443C-8EBC-13B7EBB6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CFE3-EC50-4E6C-90C3-E3DE9F9F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69395-BFE6-4C33-8C66-CEA60720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EC3A2-A9C7-40C6-BCE4-EA981AF1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06BEB-C5C9-43A1-B421-703B82E3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8CF68-A5B4-4547-BF71-3D263DB9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FADA6-14F4-4D0F-B845-F840D1DE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C58-6BBA-4F50-99AA-4B167AB8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C4D1F-9C42-46C9-A393-04A05B7A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4D9CE-9F84-4848-9D11-E2F1FF90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0234B-AA99-4534-BE0E-F150956B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5D33A-6F44-486B-8F77-8DF91430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7A0FF-125B-4CEF-947A-3EA2C693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D351C-CAA1-429A-AA2C-AD1AF284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C9B1FB-7904-4957-96E0-DEEF8F9D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4F388-3204-4C6F-A03A-E398F724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67485-E73F-4565-B952-72E185EE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F5B57-A088-4192-A12A-F241A6A1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B72-27B8-4C30-83A2-6873A0E4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E1610-1302-4DDA-9F30-94353F98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7E5CD-D2DB-449A-B027-05D28009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61795-4E82-4101-95B9-A985F88D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D5086-E9AD-48D0-BCF8-2FE799F9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54F52-65E9-4FA8-A609-E31036A1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4B174-4D72-4BD0-B170-2CC82D60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2FFDC-FE5C-438F-B4BA-78757176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71CEA-E1DE-4E76-8761-7C6072CD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84C63-43B7-49DE-896B-95C44E80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EE2E9-6B27-4314-B7A6-AC9A0C1D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B43-A1D7-4F34-B940-79492DBC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145283-8AD7-4959-9FA1-FB0D9593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49ED0-1DF8-493A-8BDD-885BB1D7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482FBD-5467-47A4-A059-193B7983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5810D-44CD-43B1-96BC-1E54FFAC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ACF84-5E13-4631-AF12-06B85785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B2FDA-7649-431E-9C8E-E21DC151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54E4F-FB5D-4778-B1B9-F75D1C50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38A59-18FF-4408-84D7-DDDC0102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EB2D76-1333-4008-88DC-BE14D3CF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F6CBD-1F07-4A0A-95F6-2669F859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80A0-BA63-46ED-9BE3-8CEBE182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94CA3-BE5B-4645-BAFF-E13F30C0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F9EC32-D841-4F8B-93A3-A4FEC5BE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B8DC6C-B2B5-4F69-9F6A-98073025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7171E-9EA5-458F-8FE6-8F84EC33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7A747-6010-4F55-BE5D-C7CCA68A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BBA292-923C-4457-9453-45A50CA1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6607C-5280-48B9-999C-BD7E2026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14D494-E82C-4A82-9BA2-4EDA09D3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1F05F5-0841-42DA-AD29-E5D0F3E4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4A058-077A-46F0-91B8-AB5DC965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95D-B983-48A5-A9B8-8A65061C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703A4-3455-47C5-8A33-7D073ABE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D83E71-F84D-42FA-961E-31F8BC97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68234-950F-4EEF-A3B5-0F4E64B2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BAE71-6180-490D-9C8B-42081F28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AF1766-0ADB-4566-BED5-B6C968C6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04135-2498-4942-AB92-BF8EC3F3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505B6D-CB05-47F0-958B-B1EF2976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F4E684-9340-4676-91FF-3219DD5F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2474E5-9B46-428C-AA88-B5C833D2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FCEFA7-38C1-48F3-97DE-92DAAF20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24C-636E-4E75-A205-49BBE427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3FF710-7375-4DE7-836E-3AD2951E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257053-4F76-44DE-89C4-8A5B9525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F30CF8-B82A-44F1-8EF8-D214F4E6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2B56AB-1D4E-4A5B-B920-DA0E3D1B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D7657A-0CE8-458C-B622-F99C807F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48C-C144-40D5-AA7A-957124C0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595F-3BE7-41CD-ADBF-6B0A4F18BD8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C6DC-68BF-45CC-BD36-F9FD21B8DDE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D7B2-A2C7-4102-BD47-4C2C91599C73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9B43-AE7F-409B-A1EB-688085C4931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ADF4-AE97-4548-AC0B-4F0047B12FB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2313-9A53-4AD2-ADD5-CA0D947CA9C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41AF-3AC1-4580-A949-E2B501928A4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JORNADA TÉCNICA </a:t>
            </a:r>
            <a:br>
              <a:rPr sz="2700"/>
            </a:b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SOBRE PLANES MUNICIPALES DE EMERGENCIA NUCLEAR PARA AUTORIDADES MUNICIPALES DE ZONA I DE LOS PEN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563640" y="5732640"/>
            <a:ext cx="582444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75f6d"/>
                </a:solidFill>
                <a:latin typeface="Century Schoolbook"/>
              </a:rPr>
              <a:t>ENPC, 19 DE OCTUBRE DE 2015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TENI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rganización: funciones y responsabilidad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atos que condicionan la operativ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Núcleos de població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Población afectad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Grupos vulnerables: escolares, personas con movilidad reducida…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cedimientos de actuación y colaboración con otros servicios operativos y grupos operativ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mplantació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ORGANIZACIÓN</a:t>
            </a: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3 Marcador de contenido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499160" cy="5602320"/>
          </a:xfrm>
          <a:prstGeom prst="rect">
            <a:avLst/>
          </a:prstGeom>
          <a:ln w="0">
            <a:noFill/>
          </a:ln>
        </p:spPr>
      </p:pic>
      <p:sp>
        <p:nvSpPr>
          <p:cNvPr id="400" name="4 Rectángulo"/>
          <p:cNvSpPr/>
          <p:nvPr/>
        </p:nvSpPr>
        <p:spPr>
          <a:xfrm>
            <a:off x="3059280" y="2708280"/>
            <a:ext cx="2304720" cy="10810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Schoolbook"/>
              </a:rPr>
              <a:t>ÓRGANO EJEC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Schoolbook"/>
              </a:rPr>
              <a:t>Secre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Schoolbook"/>
              </a:rPr>
              <a:t>Concejal de protección Civ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Schoolbook"/>
              </a:rPr>
              <a:t>Jefes de los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4 Imagen" descr="logo_gobe_mir_sub_dgpce.gif"/>
          <p:cNvPicPr/>
          <p:nvPr/>
        </p:nvPicPr>
        <p:blipFill>
          <a:blip r:embed="rId2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escudo"/>
          <p:cNvPicPr/>
          <p:nvPr/>
        </p:nvPicPr>
        <p:blipFill>
          <a:blip r:embed="rId3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R</a:t>
            </a: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ESPONSABILIDAD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94920" y="1557000"/>
            <a:ext cx="7467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Dirigir y coordinar el PAME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Activar el PAMEN y declarar la situación que corresponda, de acuerdo con la órdenes del director del PE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Aplicar las órdenes del director del PEN, en contacto con el jefe del grupo de coordinación y asistencia técnica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Asegurar el correcto funcionamiento del CECOPAL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Mantener permanentemente informada a la población y sobre el comportamiento a adoptar, de acuerdo con las directrices del director del PE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Dar servicio de información a familiares de afectados, en coordinación con el gabinete de información y comunicación del PE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Facilitar la evacuación, teniendo en cuenta las singularidades de los centros de pública concurrencia como colegios, centros sanitarios etc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Facilitar el transporte, albergue y abastecimiento a la población que lo precise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Solicitar apoyo a la dirección del PEN, en caso de que se sobrepasen las capacidades del PAME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4 CuadroTexto"/>
          <p:cNvSpPr/>
          <p:nvPr/>
        </p:nvSpPr>
        <p:spPr>
          <a:xfrm>
            <a:off x="1187280" y="1268280"/>
            <a:ext cx="648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5 CuadroTexto"/>
          <p:cNvSpPr/>
          <p:nvPr/>
        </p:nvSpPr>
        <p:spPr>
          <a:xfrm>
            <a:off x="684360" y="119700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Schoolbook"/>
              </a:rPr>
              <a:t>Director del PA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95280" y="2349360"/>
            <a:ext cx="8362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Órgano ejecutiv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sesorar al Director del Plan Municipal, en los distintos aspectos relacionados con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360" y="1412640"/>
            <a:ext cx="84247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Servicio de Informa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segurar las comunicaciones del CECOPAL con el CECO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ctuar como canal de información con los responsables de los diversos servici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3"/>
          <a:stretch/>
        </p:blipFill>
        <p:spPr>
          <a:xfrm>
            <a:off x="539640" y="3429000"/>
            <a:ext cx="2990880" cy="28796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4"/>
          <a:stretch/>
        </p:blipFill>
        <p:spPr>
          <a:xfrm>
            <a:off x="4859280" y="3573360"/>
            <a:ext cx="29480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94920" y="1773360"/>
            <a:ext cx="7931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Servicio de Avisos a la Pobla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ifundir los avisos y comunicados a la población, en relación a las medidas a adoptar que hayan sido ordenadas por el Director del Plan  Municipal, como consecuencia de las directrices recibidas del Director del Plan de Emergencia Exterio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firmar que la totalidad de la población recibe las anteriores comunicacio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/>
          <p:cNvPicPr/>
          <p:nvPr/>
        </p:nvPicPr>
        <p:blipFill>
          <a:blip r:embed="rId3"/>
          <a:stretch/>
        </p:blipFill>
        <p:spPr>
          <a:xfrm>
            <a:off x="5651640" y="5013360"/>
            <a:ext cx="1960560" cy="1332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4"/>
          <a:stretch/>
        </p:blipFill>
        <p:spPr>
          <a:xfrm>
            <a:off x="6012000" y="907920"/>
            <a:ext cx="2412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7859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Servicio de Orde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ntrolar el estricto cumplimiento de las medidas de protecció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operar en la ejecución de los Avisos a la Población y en el confinamient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laborar en el mantenimiento del orden y la disciplina en los puntos de concentración para asegurar la mayor fluidez posible en la evacuació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Ayudar a mantener la fluidez del tráfico de vehículos dentro del casco urbano, en particular en las vías prioritarias de salida de los vehículos de evacuació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laborar en la orientación de lo vehículos foráneos que deban penetrar en el casco urbano para el cumplimiento de su misión en la emergencia, a fin de que puedan llegar con la máxima rapidez a los puntos a que han sido asignado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1413000"/>
            <a:ext cx="7642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Servicio de evacuación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stablecer los lugares destinados como puntos de encuentro y de concentración de vehículo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Analizar los medios disponibles para la evacuación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Vehículos particular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Vehículos municipal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Indicar al director del PAMEN la necesidad de vehículos para la evacuación, en caso necesario para su solicitud al director del PE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Asegurar el orden de prioridades, evitando atascos y retrasos en el movimiento de vehícul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Determinar que vehículos han de acudir a cada punto de encuentr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acilitar las tarjetas de evacuación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stablecer en colaboración con el grupo sanitario,  las medidas oportunas para la evacuación de las personas que por su estado físico necesiten cuidados o medios especial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1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SERVICIO SANITARI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Mantener la comunicación con el jefe del Grupo Sanitario del Plan Exterio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laborar con el Director del PAMEN asesorándole e informándole de las actuaciones de su Servici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stablecer la organización del Servicio dentro de este Plan, proponiendo a sus colaboradores y definiendo sus actividades, para lograr una asistencia sanitaria adecuada a la població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 laborar la relación de personas que necesite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transporte especial para su evacuación, el tipo de transporte requerido y sus domicilios para una rápida localización y ponerlo en conocimiento del Director del PAME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Aplicar la medida de profilaxi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5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68000" y="141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entury Schoolbook"/>
              </a:rPr>
              <a:t>SERVICIO DE ABASTECIMIENTO Y ALBERGUE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Conocer y mantener actualizada las necesidades de la población confinada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Establecer e identificar los lugares de albergue para población transeúnte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Conocer todos los puntos de aprovisionamiento existentes en el Término Municipal, y solicitar de ellos, previa aprobación del Alcalde, los elementos que sean necesarios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Satisfacer las necesidades en la medida de sus recursos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Solicitar al CECOP, todos los recursos que sean necesarios para la población y que no puedan ser provistos dentro del Término Municipal, para su inmediata obtención por el Grupo de Apoyo Logístico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Distribuir entre la población confinada los recursos necesarios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Utilizar, si fuera necesario, los lugares de albergue previamente seleccionados, en que han de confinarse las personas en tránsito  por el área afectada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9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3964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PLANES DE ACTUACIÓN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MUNICIPAL EN EMERGENCIA NUCLEAR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ENTRO DE COORDINACIÓN OPERATIVA MUNICIPA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68000" y="2133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ECOPAL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s el puesto de mando municipal, el lugar físico desde el que se dirige y coordina la organización de la respuesta municipal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ará ubicado preferentemente en el Ayuntamiento y en él se concentra la información necesaria para la ejecución de las medidas de protección que correspondan al municipio y sean ordenadas por el CECO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3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7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  <p:pic>
        <p:nvPicPr>
          <p:cNvPr id="448" name="4 Imagen" descr="logo_gobe_mir_sub_dgpce.gif"/>
          <p:cNvPicPr/>
          <p:nvPr/>
        </p:nvPicPr>
        <p:blipFill>
          <a:blip r:embed="rId2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49" name="5 Rectángulo" descr=""/>
          <p:cNvPicPr/>
          <p:nvPr/>
        </p:nvPicPr>
        <p:blipFill>
          <a:blip r:embed="rId3"/>
          <a:stretch/>
        </p:blipFill>
        <p:spPr>
          <a:xfrm>
            <a:off x="781200" y="2371680"/>
            <a:ext cx="7650000" cy="2687760"/>
          </a:xfrm>
          <a:prstGeom prst="rect">
            <a:avLst/>
          </a:prstGeom>
          <a:ln w="0">
            <a:noFill/>
          </a:ln>
        </p:spPr>
      </p:pic>
      <p:sp>
        <p:nvSpPr>
          <p:cNvPr id="450" name="6 CuadroTexto"/>
          <p:cNvSpPr/>
          <p:nvPr/>
        </p:nvSpPr>
        <p:spPr>
          <a:xfrm>
            <a:off x="2268360" y="4869000"/>
            <a:ext cx="37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mgarcia@procivil.mir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TENID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8360" y="1984320"/>
            <a:ext cx="7704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LAN DE ACTUACIÓN MUNICIP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UNCIONES A DESARROLLAR POR LAS ORGANIZACIONE S DE LOS PAMENES ZONA 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TENIDO DE LOS PAME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PLAN DE ACTUACIÓN MUNICIPAL (PAMEN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1341000"/>
            <a:ext cx="78580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 un instrumento para asegurar la puesta en práctica, de manera ordenada y eficaz, de todas las actuaciones necesarias para la aplicación de las medidas ordenadas por el Director del Plan de Emergencia Exterior, en el ámbito geográfico municipal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Objetiv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 Evitar, o al menos, reducir en lo posible los efectos adversos de las radiaciones ionizantes sobre la población, en caso de accidente nucle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TIPOS DE ORGANIZACIONES MUNICIPA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407960"/>
            <a:ext cx="7504200" cy="4883400"/>
          </a:xfrm>
          <a:prstGeom prst="rect">
            <a:avLst/>
          </a:prstGeom>
          <a:ln w="0">
            <a:noFill/>
          </a:ln>
        </p:spPr>
      </p:pic>
      <p:pic>
        <p:nvPicPr>
          <p:cNvPr id="376" name="4 Imagen" descr="logo_gobe_mir_sub_dgpce.gif"/>
          <p:cNvPicPr/>
          <p:nvPr/>
        </p:nvPicPr>
        <p:blipFill>
          <a:blip r:embed="rId2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escudo"/>
          <p:cNvPicPr/>
          <p:nvPr/>
        </p:nvPicPr>
        <p:blipFill>
          <a:blip r:embed="rId3"/>
          <a:stretch/>
        </p:blipFill>
        <p:spPr>
          <a:xfrm>
            <a:off x="8172360" y="0"/>
            <a:ext cx="4780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TIPOS DE ORGANIZACIONES MUNICIPA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Municipios Zona I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Los que tiene todo o parte de su término municipal habitado en Zona 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Municipios Zona II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Los que tiene todo o parte de su termino municipal habitado en Zona II y no son municipios Zona 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Municipios sede de Estaciones de Clasificación y Descontaminación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(EC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Municipios sede de Áreas Base de Recepción soc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TIPOS DE ORGANIZACIONES MUNICIPA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457200" y="1600200"/>
          <a:ext cx="7467480" cy="378000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  <a:gridCol w="1244520"/>
                <a:gridCol w="1244520"/>
                <a:gridCol w="124452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ZONA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ZONA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AB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B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a. María de Garoñ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mara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ril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EAT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3 +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51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José Cabr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9 +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c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+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andelló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+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fr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</a:tbl>
          </a:graphicData>
        </a:graphic>
      </p:graphicFrame>
      <p:pic>
        <p:nvPicPr>
          <p:cNvPr id="384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escudo"/>
          <p:cNvPicPr/>
          <p:nvPr/>
        </p:nvPicPr>
        <p:blipFill>
          <a:blip r:embed="rId2"/>
          <a:stretch/>
        </p:blipFill>
        <p:spPr>
          <a:xfrm>
            <a:off x="8172360" y="0"/>
            <a:ext cx="4780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 DE LAS ORGANIZACIONES DE LOS PAMENES ZONA 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599840"/>
            <a:ext cx="7467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En situación  de emergenci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Alertar, informar y dar avisos a la població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acilitar el confinamiento y el abastecimiento a la población confinad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acilitar la distribución de la sustancias para la profilaxis radiológi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acilitar la evacuación de la población, en caso necesari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Transmitir, recibir y registrar las comunicaciones durante la emergenci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Colaborar con los servicios de los grupos operativos en la aplicación de las medidas de protección a la població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 DE LAS ORGANIZACIONES DE LOS PAMENES ZONA 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599840"/>
            <a:ext cx="74674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En situación  de normalida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Elaboración/actualización</a:t>
            </a:r>
            <a:r>
              <a:rPr b="1" lang="es-ES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del Plan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Facilitar la puesta en práctica de programas de información previa, de carácter preventivo a la población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Procurar la adecuada formación del personal integrado en la organización del PAMEN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Realizar ejercicios y simulacros periódicos que permitan mejorar la instrucción del personal adscrito a la organización del PAMEN, comprobar la idoneidad y el estado funcional de los medios a disposición para emergencias,  verificar el grado de operatividad del plan  y derivar de todo ello las medidas de mejora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Fomentar y facilitar la participación ciudadana  en las actividades anteriormente enunciadas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Mantener la operatividad medios materiales asignados al PAMEN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lnSpc>
                <a:spcPct val="9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7T15:32:43Z</dcterms:created>
  <dc:creator>mgarcia</dc:creator>
  <dc:description/>
  <dc:language>en-US</dc:language>
  <cp:lastModifiedBy>mgarcia</cp:lastModifiedBy>
  <dcterms:modified xsi:type="dcterms:W3CDTF">2015-10-19T07:05:09Z</dcterms:modified>
  <cp:revision>177</cp:revision>
  <dc:subject/>
  <dc:title>JORNADA TÉCNICA  SOBRE PLANES MUNICIPALES DE EMERGENCIA NUCLEAR PARA  AUTORIDADES MUNICIPALES DE ZONA I DE LOS PEN</dc:title>
</cp:coreProperties>
</file>